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A95D-EA0A-4818-B1FC-41222F37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859-DBF9-4D13-BFB6-61775FBA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C9B-5CCF-4700-858A-AC1CDD0A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C0C-A7C9-420D-B17E-8543B52B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027-B9C3-4FEF-B027-D86E76F8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4DB-2E0E-4326-A04A-0596FBB4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F8C-D273-492B-8701-3282EB59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2E0-A915-4176-91ED-96FDBC64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698-57B6-4716-A852-691B363C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05D-7A4D-46E8-9C90-5F2597EB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816-BDB0-4409-9FA3-F4E4D177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2EE-390F-4DFD-9D5B-DA400897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B262-58D2-4834-A876-AF1C16E848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62784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.Серов  «Девочка  с  персика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картина девочка с персиками"/>
          <p:cNvPicPr/>
          <p:nvPr/>
        </p:nvPicPr>
        <p:blipFill>
          <a:blip r:embed="rId1"/>
          <a:stretch/>
        </p:blipFill>
        <p:spPr>
          <a:xfrm>
            <a:off x="1692360" y="189000"/>
            <a:ext cx="563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616536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.Коровин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«Роз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Розы"/>
          <p:cNvPicPr/>
          <p:nvPr/>
        </p:nvPicPr>
        <p:blipFill>
          <a:blip r:embed="rId1"/>
          <a:stretch/>
        </p:blipFill>
        <p:spPr>
          <a:xfrm>
            <a:off x="2268360" y="189000"/>
            <a:ext cx="45309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Крамской  «Букет  цветов. Флокс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букет цветов"/>
          <p:cNvPicPr/>
          <p:nvPr/>
        </p:nvPicPr>
        <p:blipFill>
          <a:blip r:embed="rId1"/>
          <a:stretch/>
        </p:blipFill>
        <p:spPr>
          <a:xfrm>
            <a:off x="1835280" y="189000"/>
            <a:ext cx="5298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А  теперь  нарисуй  то, что  тебе  кажется  прекрасны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676160"/>
            <a:ext cx="8893080" cy="29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Прекрасное  в  жизни  и  произведениях  искусств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еловеку  всегда  хотелось  запечатлеть  прекрасное,  то,  что  удивляло  и радовало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овать  люди  научились  еще  в  глубокой  дре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image001"/>
          <p:cNvPicPr/>
          <p:nvPr/>
        </p:nvPicPr>
        <p:blipFill>
          <a:blip r:embed="rId1"/>
          <a:stretch/>
        </p:blipFill>
        <p:spPr>
          <a:xfrm>
            <a:off x="250920" y="2565360"/>
            <a:ext cx="2952720" cy="213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080-19"/>
          <p:cNvPicPr/>
          <p:nvPr/>
        </p:nvPicPr>
        <p:blipFill>
          <a:blip r:embed="rId2"/>
          <a:stretch/>
        </p:blipFill>
        <p:spPr>
          <a:xfrm>
            <a:off x="3059280" y="3429000"/>
            <a:ext cx="3274920" cy="213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Наскальная живопись бушменов"/>
          <p:cNvPicPr/>
          <p:nvPr/>
        </p:nvPicPr>
        <p:blipFill>
          <a:blip r:embed="rId3"/>
          <a:stretch/>
        </p:blipFill>
        <p:spPr>
          <a:xfrm>
            <a:off x="6156360" y="4365720"/>
            <a:ext cx="28083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22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72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22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Шли  века.  Некоторые  люди  достигли  высокого  мастерства  в  умении рисовать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16572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Березовая  рощ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Березовая роща"/>
          <p:cNvPicPr/>
          <p:nvPr/>
        </p:nvPicPr>
        <p:blipFill>
          <a:blip r:embed="rId1"/>
          <a:stretch/>
        </p:blipFill>
        <p:spPr>
          <a:xfrm>
            <a:off x="971640" y="1413000"/>
            <a:ext cx="7257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Золотая  осен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5" descr="Золотая осень. 1895 год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Девятый  вал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картина Девятый вал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Ночь  в  Вене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Ночь в Венеции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Зим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Зима 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Рож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Рожь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1:26:10Z</dcterms:created>
  <dc:creator>Наталья</dc:creator>
  <dc:description/>
  <dc:language>en-US</dc:language>
  <cp:lastModifiedBy>Owner</cp:lastModifiedBy>
  <dcterms:modified xsi:type="dcterms:W3CDTF">2011-07-30T19:59:10Z</dcterms:modified>
  <cp:revision>4</cp:revision>
  <dc:subject/>
  <dc:title>Прекрасное  в  жизни  и  произведениях  искусства</dc:title>
</cp:coreProperties>
</file>